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6ED-4900-4FAF-BE48-6178F280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0A1-1DA5-4549-8872-31D656E0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0A9-28B7-4AE7-99B9-CE6C03EB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2F8-22C2-4EFC-B16C-00E1A7A6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BD9-22C8-43AE-A6B7-F14B3F9C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A99-5CE4-481F-A773-32F42A69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654D-2AA6-4476-9D8E-AB6BA958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A09-A908-4BFF-AAC5-0B8E4FF6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F97-EE78-4D3B-9491-5B3FD2E0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2C4-2200-46A1-BC8F-05C05474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68B-C876-4519-8AE3-2BBE944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B4D-419C-487E-8AC8-3D97EC1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953-11FA-4DD6-BB48-8DE1E1033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fred Dar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- electronic mail which allows individuals with an account to send messages to another person with an e-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 Oikarinen and allows instant online communicating with someone else who is also online by typing messages back and fou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 bulletin board service allows a user to participate in a discussi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- hypertext transfer protocol is used for handling the transmission of pages between a web server and a web brow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- file transfer protocol is used to rapidly transfer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- a program used o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- one of the first widespread internet brows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- a network used by a single organization and only accessible by authorized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wall- a network security system that prevents unauthorized network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net-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Profiling-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-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- a collection of servers that offer net 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width- the amount of data and the speed at which the data can travel over the transmission media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 digital subscri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topology and connects the network devices by twisting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-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-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s-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8:34Z</dcterms:created>
  <dc:creator>772617</dc:creator>
  <dc:description/>
  <dc:language>en-US</dc:language>
  <cp:lastModifiedBy>772617</cp:lastModifiedBy>
  <dcterms:modified xsi:type="dcterms:W3CDTF">2009-04-16T15:29:48Z</dcterms:modified>
  <cp:revision>3</cp:revision>
  <dc:subject/>
  <dc:title>Vocabulary </dc:title>
</cp:coreProperties>
</file>